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jpeg" ContentType="image/jpeg"/>
  <Override PartName="/ppt/media/image6.gif" ContentType="image/gi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ADE-D65C-4D48-9C47-7C4E5AB9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C5B-8190-4BB2-B4E6-2B2897DC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EF5-6217-4D53-B6A0-2E6DABC5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677-5A89-478D-A242-BCB1ECE6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E9C-1AD7-43E2-93B8-A95A7F5A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283-EE74-437C-83A2-DADD2D9B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1AA-05B3-40BD-A635-D13A0634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1A7-64B7-4829-9E0F-1371DD09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595-60CA-4AB5-A5EE-7E208F50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12D-7730-43F1-B0A5-E0435E54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FCD-0803-414C-8C2A-6F9A82AD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F06-297B-446D-82AB-87459057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6A5F-848E-4430-B02C-145DCA41C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1628640"/>
            <a:ext cx="4753080" cy="145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64ac4">
                        <a:alpha val="35294"/>
                      </a:srgbClr>
                    </a:gs>
                    <a:gs pos="100000">
                      <a:srgbClr val="803fa7"/>
                    </a:gs>
                  </a:gsLst>
                  <a:lin ang="5400000"/>
                </a:gradFill>
                <a:latin typeface="Book Antiqua"/>
              </a:rPr>
              <a:t>How to keep the sewage clean</a:t>
            </a: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64ac4">
                      <a:alpha val="35294"/>
                    </a:srgbClr>
                  </a:gs>
                  <a:gs pos="100000">
                    <a:srgbClr val="803fa7"/>
                  </a:gs>
                </a:gsLst>
                <a:lin ang="54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64ac4">
                      <a:alpha val="35294"/>
                    </a:srgbClr>
                  </a:gs>
                  <a:gs pos="100000">
                    <a:srgbClr val="803fa7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1908360" cy="191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80360" y="765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19640" y="5229360"/>
            <a:ext cx="2246400" cy="1271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5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3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bad things enters the sea it can kill the animal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334980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5 -0.018 -0.02131 -0.023 -0.02131 C -0.054 -0.02131 -0.086 0.14516 -0.086 0.31164 C -0.086 0.22774 -0.102 0.14517 -0.117 0.14517 C -0.133 0.14517 -0.148 0.22907 -0.148 0.31164 C -0.148 0.27035 -0.156 0.22774 -0.164 0.22774 C -0.172 0.22774 -0.18 0.26903 -0.18 0.31164 C -0.18 0.29033 -0.184 0.27035 -0.188 0.27035 C -0.192 0.27035 -0.196 0.29166 -0.196 0.31164 C -0.196 0.30099 -0.198 0.29033 -0.2 0.29033 C -0.201 0.29033 -0.204 0.30098 -0.204 0.31164 C -0.204 0.30631 -0.205 0.30099 -0.206 0.30099 C -0.206 0.29966 -0.208 0.30632 -0.208 0.31164 C -0.208 0.30898 -0.208 0.30631 -0.209 0.30631 C -0.209 0.30764 -0.21 0.30897 -0.21 0.31164 C -0.21 0.31031 -0.21 0.30898 -0.21 0.30764 C -0.211 0.30764 -0.211 0.30897 -0.211 0.3103 C -0.212 0.3103 -0.212 0.30897 -0.212 0.30764 C -0.213 0.30764 -0.213 0.30897 -0.213 0.3103 E">
                                      <p:cBhvr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cc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also can poison people who eat the shellfish which live in the poison river so don’t put pollute th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907920"/>
            <a:ext cx="1842840" cy="174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27640" y="4365720"/>
            <a:ext cx="2376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pollutes the river like the news on 17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ay 2009 that poisons enter Parramatta River so don’t just let the poisons d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2360" y="476280"/>
            <a:ext cx="133956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24360" y="3432240"/>
            <a:ext cx="286884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2:56:57Z</dcterms:created>
  <dc:creator>nicholais.lang</dc:creator>
  <dc:description/>
  <dc:language>en-US</dc:language>
  <cp:lastModifiedBy>nicholais.lang</cp:lastModifiedBy>
  <dcterms:modified xsi:type="dcterms:W3CDTF">2009-05-21T03:39:13Z</dcterms:modified>
  <cp:revision>3</cp:revision>
  <dc:subject/>
  <dc:title>Slide 1</dc:title>
</cp:coreProperties>
</file>